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14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720C-AC34-4792-A316-CC95E131B6B5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F342-766A-437E-86F2-4F4C223A39A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43B-3B39-4663-9184-D73CB47B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BD5-0759-4BAC-8087-573EB2AC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C712-5943-47A7-8225-AED4F8E9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A86-1A6D-4624-BD71-76F7160B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726-CD0C-423B-8468-C005950C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7732-542B-4B74-AA2E-C18DEE2B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77F-2416-4B1B-B510-AF20CD33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AC5-26BC-4FB4-B945-4B8E4F10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41E3-3BC2-4E11-9AC1-BAE0C0BE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59EB-1475-4E87-9B03-D0067CEA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A8E-BD17-4DA9-AD27-2BA5857C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9FD-8772-4552-96A7-E1940493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ED87-B860-47A3-BB5B-129D0851D260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Bolilla 8: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EINAS Y AMINOACIDOS 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Digestión de Proteínas y Absorción de aminoácidos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TABOLISMO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tabolismo del nitrógeno de aminoácido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. Transaminación. Desaminación oxidativa del glutamato. Desaminación no oxidativa. 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ías metabólicas del amoníaco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. Formación de glutamina. Glutaminasa. Formas de excreción del nitrógeno (amoniotélicos, ureotélicos y uricotélicos).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RMACIÓN DE URE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: Ciclo de la ornitina.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osto energético. Interconexión con el ciclo de Krebs.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iclo de la glucosa-alanina. 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tabolismo del esqueleto carbonado de los aminoácido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Aminoácidos cetogénicos y glucogénicos. Vías metabólicas a piruvato. Vías del alfa-cetoglutarato, del oxalacetato, de fumarato y acetoacetil CoA. 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luconeogénesis a partir de aminoácidos.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osíntesis de aminoácidos no esenciale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. Funciones precursoras de los aminoácidos.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osíntesis de aminas biógena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: histamina, triptamina, tiramina, ácido gamma aminobutírico. Síntesis de creatina y creatinina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¿Como actúa la pepsi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 UNA ENDOPEPTID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IDROLIZA UNIONES PEPTID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CTUA SOBRE GRUPOS AMINOS DE Aac AROMATICOS (Triptofano, fenilalanina, tirosi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FORMACION de H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CION DE LA ANHIDRASA CARBO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Cuadro de texto 4"/>
          <p:cNvSpPr/>
          <p:nvPr/>
        </p:nvSpPr>
        <p:spPr>
          <a:xfrm>
            <a:off x="977760" y="2421000"/>
            <a:ext cx="6913800" cy="510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 +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O              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  +   H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ínea 5"/>
          <p:cNvSpPr/>
          <p:nvPr/>
        </p:nvSpPr>
        <p:spPr>
          <a:xfrm>
            <a:off x="2557440" y="2649600"/>
            <a:ext cx="717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upo 20"/>
          <p:cNvGrpSpPr/>
          <p:nvPr/>
        </p:nvGrpSpPr>
        <p:grpSpPr>
          <a:xfrm>
            <a:off x="4716360" y="2538360"/>
            <a:ext cx="727200" cy="144360"/>
            <a:chOff x="4716360" y="2538360"/>
            <a:chExt cx="727200" cy="144360"/>
          </a:xfrm>
        </p:grpSpPr>
        <p:sp>
          <p:nvSpPr>
            <p:cNvPr id="159" name="Línea 6"/>
            <p:cNvSpPr/>
            <p:nvPr/>
          </p:nvSpPr>
          <p:spPr>
            <a:xfrm>
              <a:off x="4724280" y="268272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Línea 7"/>
            <p:cNvSpPr/>
            <p:nvPr/>
          </p:nvSpPr>
          <p:spPr>
            <a:xfrm>
              <a:off x="4716360" y="253836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Línea 8"/>
          <p:cNvSpPr/>
          <p:nvPr/>
        </p:nvSpPr>
        <p:spPr>
          <a:xfrm>
            <a:off x="1619280" y="450864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ínea 9"/>
          <p:cNvSpPr/>
          <p:nvPr/>
        </p:nvSpPr>
        <p:spPr>
          <a:xfrm>
            <a:off x="1692360" y="522936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lipse 10"/>
          <p:cNvSpPr/>
          <p:nvPr/>
        </p:nvSpPr>
        <p:spPr>
          <a:xfrm>
            <a:off x="3132000" y="4508640"/>
            <a:ext cx="719280" cy="720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orma libre 11"/>
          <p:cNvSpPr/>
          <p:nvPr/>
        </p:nvSpPr>
        <p:spPr>
          <a:xfrm rot="16200000">
            <a:off x="3347280" y="4796280"/>
            <a:ext cx="1297080" cy="289080"/>
          </a:xfrm>
          <a:custGeom>
            <a:avLst/>
            <a:gdLst/>
            <a:ahLst/>
            <a:rect l="l" t="t" r="r" b="b"/>
            <a:pathLst>
              <a:path w="635" h="182">
                <a:moveTo>
                  <a:pt x="0" y="182"/>
                </a:moveTo>
                <a:cubicBezTo>
                  <a:pt x="106" y="91"/>
                  <a:pt x="212" y="0"/>
                  <a:pt x="318" y="0"/>
                </a:cubicBezTo>
                <a:cubicBezTo>
                  <a:pt x="424" y="0"/>
                  <a:pt x="590" y="144"/>
                  <a:pt x="635" y="18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rma libre 12"/>
          <p:cNvSpPr/>
          <p:nvPr/>
        </p:nvSpPr>
        <p:spPr>
          <a:xfrm rot="5017800">
            <a:off x="2302200" y="4766400"/>
            <a:ext cx="1373040" cy="276120"/>
          </a:xfrm>
          <a:custGeom>
            <a:avLst/>
            <a:gdLst/>
            <a:ahLst/>
            <a:rect l="l" t="t" r="r" b="b"/>
            <a:pathLst>
              <a:path w="635" h="182">
                <a:moveTo>
                  <a:pt x="0" y="182"/>
                </a:moveTo>
                <a:cubicBezTo>
                  <a:pt x="106" y="91"/>
                  <a:pt x="212" y="0"/>
                  <a:pt x="318" y="0"/>
                </a:cubicBezTo>
                <a:cubicBezTo>
                  <a:pt x="424" y="0"/>
                  <a:pt x="590" y="144"/>
                  <a:pt x="635" y="18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Cuadro de texto 13"/>
          <p:cNvSpPr/>
          <p:nvPr/>
        </p:nvSpPr>
        <p:spPr>
          <a:xfrm>
            <a:off x="1476360" y="3860640"/>
            <a:ext cx="100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LU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Cuadro de texto 14"/>
          <p:cNvSpPr/>
          <p:nvPr/>
        </p:nvSpPr>
        <p:spPr>
          <a:xfrm>
            <a:off x="4284720" y="6021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ITOPLAS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uadro de texto 15"/>
          <p:cNvSpPr/>
          <p:nvPr/>
        </p:nvSpPr>
        <p:spPr>
          <a:xfrm>
            <a:off x="2556000" y="57340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uadro de texto 16"/>
          <p:cNvSpPr/>
          <p:nvPr/>
        </p:nvSpPr>
        <p:spPr>
          <a:xfrm>
            <a:off x="4067280" y="3860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uadro de texto 17"/>
          <p:cNvSpPr/>
          <p:nvPr/>
        </p:nvSpPr>
        <p:spPr>
          <a:xfrm>
            <a:off x="1763640" y="5300640"/>
            <a:ext cx="72072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uadro de texto 18"/>
          <p:cNvSpPr/>
          <p:nvPr/>
        </p:nvSpPr>
        <p:spPr>
          <a:xfrm>
            <a:off x="4572000" y="5300640"/>
            <a:ext cx="151272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    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ADP + 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rma libre 21"/>
          <p:cNvSpPr/>
          <p:nvPr/>
        </p:nvSpPr>
        <p:spPr>
          <a:xfrm>
            <a:off x="2411280" y="5229360"/>
            <a:ext cx="2160720" cy="252360"/>
          </a:xfrm>
          <a:custGeom>
            <a:avLst/>
            <a:gdLst/>
            <a:ahLst/>
            <a:rect l="l" t="t" r="r" b="b"/>
            <a:pathLst>
              <a:path w="1361" h="159">
                <a:moveTo>
                  <a:pt x="0" y="114"/>
                </a:moveTo>
                <a:cubicBezTo>
                  <a:pt x="72" y="76"/>
                  <a:pt x="144" y="38"/>
                  <a:pt x="318" y="23"/>
                </a:cubicBezTo>
                <a:cubicBezTo>
                  <a:pt x="492" y="8"/>
                  <a:pt x="869" y="0"/>
                  <a:pt x="1043" y="23"/>
                </a:cubicBezTo>
                <a:cubicBezTo>
                  <a:pt x="1217" y="46"/>
                  <a:pt x="1308" y="136"/>
                  <a:pt x="1361" y="159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Cuadro de texto 22"/>
          <p:cNvSpPr/>
          <p:nvPr/>
        </p:nvSpPr>
        <p:spPr>
          <a:xfrm>
            <a:off x="755640" y="47862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Membrana ap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forma 24"/>
          <p:cNvSpPr/>
          <p:nvPr/>
        </p:nvSpPr>
        <p:spPr>
          <a:xfrm>
            <a:off x="6659640" y="4365720"/>
            <a:ext cx="288720" cy="2016000"/>
          </a:xfrm>
          <a:custGeom>
            <a:avLst/>
            <a:gdLst>
              <a:gd name="textAreaLeft" fmla="*/ 0 w 288720"/>
              <a:gd name="textAreaRight" fmla="*/ 104040 w 28872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uadro de texto 25"/>
          <p:cNvSpPr/>
          <p:nvPr/>
        </p:nvSpPr>
        <p:spPr>
          <a:xfrm>
            <a:off x="7093080" y="5229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élula Parie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uadro de texto 26"/>
          <p:cNvSpPr/>
          <p:nvPr/>
        </p:nvSpPr>
        <p:spPr>
          <a:xfrm>
            <a:off x="7236000" y="3357720"/>
            <a:ext cx="1582560" cy="120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Histam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cetilcol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Gastr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ínea 27"/>
          <p:cNvSpPr/>
          <p:nvPr/>
        </p:nvSpPr>
        <p:spPr>
          <a:xfrm>
            <a:off x="8028000" y="4724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Cuadro de texto 28"/>
          <p:cNvSpPr/>
          <p:nvPr/>
        </p:nvSpPr>
        <p:spPr>
          <a:xfrm>
            <a:off x="8101080" y="4724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1 CuadroTexto"/>
          <p:cNvSpPr/>
          <p:nvPr/>
        </p:nvSpPr>
        <p:spPr>
          <a:xfrm>
            <a:off x="3254400" y="371016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1" lang="es-MX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SECRECION  PANCREA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uadro de texto 4"/>
          <p:cNvSpPr/>
          <p:nvPr/>
        </p:nvSpPr>
        <p:spPr>
          <a:xfrm>
            <a:off x="3708360" y="2421000"/>
            <a:ext cx="18003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Secret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uadro de texto 5"/>
          <p:cNvSpPr/>
          <p:nvPr/>
        </p:nvSpPr>
        <p:spPr>
          <a:xfrm>
            <a:off x="3492360" y="4149720"/>
            <a:ext cx="2880000" cy="157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Sangre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Pancreozimina 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olecistoquin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Cuadro de texto 6"/>
          <p:cNvSpPr/>
          <p:nvPr/>
        </p:nvSpPr>
        <p:spPr>
          <a:xfrm>
            <a:off x="1476360" y="2492280"/>
            <a:ext cx="719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Cuadro de texto 7"/>
          <p:cNvSpPr/>
          <p:nvPr/>
        </p:nvSpPr>
        <p:spPr>
          <a:xfrm>
            <a:off x="611280" y="4365720"/>
            <a:ext cx="2160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Aminoácidos en el Intesti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Cuadro de texto 8"/>
          <p:cNvSpPr/>
          <p:nvPr/>
        </p:nvSpPr>
        <p:spPr>
          <a:xfrm>
            <a:off x="6372360" y="2492280"/>
            <a:ext cx="1224000" cy="510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H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uadro de texto 9"/>
          <p:cNvSpPr/>
          <p:nvPr/>
        </p:nvSpPr>
        <p:spPr>
          <a:xfrm>
            <a:off x="6985080" y="4437000"/>
            <a:ext cx="190800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nzimas pancreá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forma 10"/>
          <p:cNvSpPr/>
          <p:nvPr/>
        </p:nvSpPr>
        <p:spPr>
          <a:xfrm>
            <a:off x="2340000" y="2276640"/>
            <a:ext cx="1368360" cy="21564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forma 11"/>
          <p:cNvSpPr/>
          <p:nvPr/>
        </p:nvSpPr>
        <p:spPr>
          <a:xfrm>
            <a:off x="5435640" y="2133720"/>
            <a:ext cx="1368360" cy="21564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Autoforma 12"/>
          <p:cNvSpPr/>
          <p:nvPr/>
        </p:nvSpPr>
        <p:spPr>
          <a:xfrm>
            <a:off x="1908000" y="4076640"/>
            <a:ext cx="1368720" cy="216000"/>
          </a:xfrm>
          <a:custGeom>
            <a:avLst/>
            <a:gdLst>
              <a:gd name="textAreaLeft" fmla="*/ 239400 w 1368720"/>
              <a:gd name="textAreaRight" fmla="*/ 992520 w 136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Autoforma 13"/>
          <p:cNvSpPr/>
          <p:nvPr/>
        </p:nvSpPr>
        <p:spPr>
          <a:xfrm>
            <a:off x="6443640" y="4149720"/>
            <a:ext cx="1368360" cy="21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ínea 14"/>
          <p:cNvSpPr/>
          <p:nvPr/>
        </p:nvSpPr>
        <p:spPr>
          <a:xfrm flipV="1">
            <a:off x="8244000" y="20602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uadro de texto 15"/>
          <p:cNvSpPr/>
          <p:nvPr/>
        </p:nvSpPr>
        <p:spPr>
          <a:xfrm>
            <a:off x="8244000" y="22766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1 CuadroTexto"/>
          <p:cNvSpPr/>
          <p:nvPr/>
        </p:nvSpPr>
        <p:spPr>
          <a:xfrm>
            <a:off x="587160" y="18478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Estómago 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 Intesti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2 CuadroTexto"/>
          <p:cNvSpPr/>
          <p:nvPr/>
        </p:nvSpPr>
        <p:spPr>
          <a:xfrm>
            <a:off x="6467040" y="176364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Páncr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CuadroTexto"/>
          <p:cNvSpPr/>
          <p:nvPr/>
        </p:nvSpPr>
        <p:spPr>
          <a:xfrm>
            <a:off x="4095000" y="18572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igestión de Proteínas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II) En Duod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ínea 13"/>
          <p:cNvSpPr/>
          <p:nvPr/>
        </p:nvSpPr>
        <p:spPr>
          <a:xfrm>
            <a:off x="3635280" y="2421000"/>
            <a:ext cx="690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ínea 14"/>
          <p:cNvSpPr/>
          <p:nvPr/>
        </p:nvSpPr>
        <p:spPr>
          <a:xfrm flipH="1">
            <a:off x="4572000" y="2421000"/>
            <a:ext cx="890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ínea 15"/>
          <p:cNvSpPr/>
          <p:nvPr/>
        </p:nvSpPr>
        <p:spPr>
          <a:xfrm>
            <a:off x="3635280" y="2421000"/>
            <a:ext cx="792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ínea 17"/>
          <p:cNvSpPr/>
          <p:nvPr/>
        </p:nvSpPr>
        <p:spPr>
          <a:xfrm>
            <a:off x="4427640" y="213372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uadro de texto 20"/>
          <p:cNvSpPr/>
          <p:nvPr/>
        </p:nvSpPr>
        <p:spPr>
          <a:xfrm>
            <a:off x="3132000" y="1557360"/>
            <a:ext cx="2305080" cy="5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Tripsinóg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Cuadro de texto 21"/>
          <p:cNvSpPr/>
          <p:nvPr/>
        </p:nvSpPr>
        <p:spPr>
          <a:xfrm>
            <a:off x="3203640" y="2781360"/>
            <a:ext cx="2305080" cy="718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Trips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Cuadro de texto 22"/>
          <p:cNvSpPr/>
          <p:nvPr/>
        </p:nvSpPr>
        <p:spPr>
          <a:xfrm>
            <a:off x="250920" y="3716280"/>
            <a:ext cx="3058920" cy="539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Quimotripsinóg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Cuadro de texto 23"/>
          <p:cNvSpPr/>
          <p:nvPr/>
        </p:nvSpPr>
        <p:spPr>
          <a:xfrm>
            <a:off x="250920" y="4581360"/>
            <a:ext cx="3492360" cy="86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Procarboxipeptidasas A y 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Cuadro de texto 24"/>
          <p:cNvSpPr/>
          <p:nvPr/>
        </p:nvSpPr>
        <p:spPr>
          <a:xfrm>
            <a:off x="5580000" y="2060640"/>
            <a:ext cx="2305080" cy="539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Arial"/>
              </a:rPr>
              <a:t>Enteropeptida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Cuadro de texto 25"/>
          <p:cNvSpPr/>
          <p:nvPr/>
        </p:nvSpPr>
        <p:spPr>
          <a:xfrm>
            <a:off x="324000" y="5805360"/>
            <a:ext cx="2305080" cy="540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Proelastas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Cuadro de texto 26"/>
          <p:cNvSpPr/>
          <p:nvPr/>
        </p:nvSpPr>
        <p:spPr>
          <a:xfrm>
            <a:off x="5796000" y="3645000"/>
            <a:ext cx="2305080" cy="5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Quimotripsina </a:t>
            </a:r>
            <a:r>
              <a:rPr b="1" lang="es-ES_tradnl" sz="2400" spc="-1" strike="noStrike">
                <a:solidFill>
                  <a:srgbClr val="ff33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uadro de texto 27"/>
          <p:cNvSpPr/>
          <p:nvPr/>
        </p:nvSpPr>
        <p:spPr>
          <a:xfrm>
            <a:off x="5651640" y="4724280"/>
            <a:ext cx="3024000" cy="792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Carboxipeptidasas A y 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Cuadro de texto 28"/>
          <p:cNvSpPr/>
          <p:nvPr/>
        </p:nvSpPr>
        <p:spPr>
          <a:xfrm>
            <a:off x="6315120" y="5797440"/>
            <a:ext cx="1512720" cy="540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Elast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Autoforma 30"/>
          <p:cNvSpPr/>
          <p:nvPr/>
        </p:nvSpPr>
        <p:spPr>
          <a:xfrm>
            <a:off x="3924360" y="3716280"/>
            <a:ext cx="1079280" cy="2737080"/>
          </a:xfrm>
          <a:custGeom>
            <a:avLst/>
            <a:gdLst>
              <a:gd name="textAreaLeft" fmla="*/ 395280 w 1079280"/>
              <a:gd name="textAreaRight" fmla="*/ 684000 w 1079280"/>
              <a:gd name="textAreaTop" fmla="*/ 0 h 2737080"/>
              <a:gd name="textAreaBottom" fmla="*/ 2737440 h 2737080"/>
            </a:gdLst>
            <a:ahLst/>
            <a:rect l="textAreaLeft" t="textAreaTop" r="textAreaRight" b="textAreaBottom"/>
            <a:pathLst>
              <a:path w="21600" h="21600">
                <a:moveTo>
                  <a:pt x="7909" y="0"/>
                </a:moveTo>
                <a:lnTo>
                  <a:pt x="13691" y="0"/>
                </a:lnTo>
                <a:lnTo>
                  <a:pt x="13691" y="9828"/>
                </a:lnTo>
                <a:lnTo>
                  <a:pt x="17248" y="9828"/>
                </a:lnTo>
                <a:lnTo>
                  <a:pt x="17248" y="6925"/>
                </a:lnTo>
                <a:lnTo>
                  <a:pt x="21600" y="10800"/>
                </a:lnTo>
                <a:lnTo>
                  <a:pt x="17248" y="14675"/>
                </a:lnTo>
                <a:lnTo>
                  <a:pt x="17248" y="11772"/>
                </a:lnTo>
                <a:lnTo>
                  <a:pt x="13691" y="11772"/>
                </a:lnTo>
                <a:lnTo>
                  <a:pt x="13691" y="21600"/>
                </a:lnTo>
                <a:lnTo>
                  <a:pt x="7909" y="21600"/>
                </a:lnTo>
                <a:lnTo>
                  <a:pt x="7909" y="11772"/>
                </a:lnTo>
                <a:lnTo>
                  <a:pt x="4352" y="11772"/>
                </a:lnTo>
                <a:lnTo>
                  <a:pt x="4352" y="14675"/>
                </a:lnTo>
                <a:lnTo>
                  <a:pt x="0" y="10800"/>
                </a:lnTo>
                <a:lnTo>
                  <a:pt x="4352" y="6925"/>
                </a:lnTo>
                <a:lnTo>
                  <a:pt x="4352" y="9828"/>
                </a:lnTo>
                <a:lnTo>
                  <a:pt x="7909" y="9828"/>
                </a:lnTo>
                <a:close/>
              </a:path>
            </a:pathLst>
          </a:custGeom>
          <a:solidFill>
            <a:srgbClr val="2ce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Cuadro de texto 31"/>
          <p:cNvSpPr/>
          <p:nvPr/>
        </p:nvSpPr>
        <p:spPr>
          <a:xfrm>
            <a:off x="4284720" y="3933720"/>
            <a:ext cx="360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lipse 32"/>
          <p:cNvSpPr/>
          <p:nvPr/>
        </p:nvSpPr>
        <p:spPr>
          <a:xfrm>
            <a:off x="0" y="2492280"/>
            <a:ext cx="1728720" cy="10810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INACTIV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lipse 33"/>
          <p:cNvSpPr/>
          <p:nvPr/>
        </p:nvSpPr>
        <p:spPr>
          <a:xfrm>
            <a:off x="7415280" y="2565360"/>
            <a:ext cx="1728720" cy="10810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1 CuadroTexto"/>
          <p:cNvSpPr/>
          <p:nvPr/>
        </p:nvSpPr>
        <p:spPr>
          <a:xfrm>
            <a:off x="2124720" y="230832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Autocatáli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¿QUE TIPO DE ENLACES PEPTIDICOS HIDROLIZA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Tripsina (endopeptidasa) : grupos carbonilos de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lisina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arginin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Quimotripsina (endopeptidasa) grupos carboxilos de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fenilalanina, tirosina, triptofan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Las carboxipeptidasas (exopeptidasas) eliminan restos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carboxilos terminales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SISTEMAS DE TRANSPORTE DE LOS AMINOAC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Cuadro de texto 5"/>
          <p:cNvSpPr/>
          <p:nvPr/>
        </p:nvSpPr>
        <p:spPr>
          <a:xfrm>
            <a:off x="250920" y="3105000"/>
            <a:ext cx="187308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Arial"/>
              </a:rPr>
              <a:t>CELULAS (intestinales, renales, hepáticas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Cuadro de texto 6"/>
          <p:cNvSpPr/>
          <p:nvPr/>
        </p:nvSpPr>
        <p:spPr>
          <a:xfrm>
            <a:off x="2700360" y="2781360"/>
            <a:ext cx="216072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Arial"/>
              </a:rPr>
              <a:t>Transporte  Mediado A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Cuadro de texto 7"/>
          <p:cNvSpPr/>
          <p:nvPr/>
        </p:nvSpPr>
        <p:spPr>
          <a:xfrm>
            <a:off x="2627280" y="4869000"/>
            <a:ext cx="244800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Arial"/>
              </a:rPr>
              <a:t>Difusión facili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Cuadro de texto 8"/>
          <p:cNvSpPr/>
          <p:nvPr/>
        </p:nvSpPr>
        <p:spPr>
          <a:xfrm>
            <a:off x="5041800" y="1854360"/>
            <a:ext cx="3959280" cy="3003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1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Aminoácidos neutros 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pequeños: Alanina, ser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Aa. neutros y aromáticos grandes: isoleucina, tiros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2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Aminoácidos básicos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: Argin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3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Aminoácidos ácidos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: Glutama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4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Iminoácidos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: Prol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ínea 9"/>
          <p:cNvSpPr/>
          <p:nvPr/>
        </p:nvSpPr>
        <p:spPr>
          <a:xfrm flipV="1">
            <a:off x="2268360" y="3573360"/>
            <a:ext cx="129564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ínea 10"/>
          <p:cNvSpPr/>
          <p:nvPr/>
        </p:nvSpPr>
        <p:spPr>
          <a:xfrm>
            <a:off x="2287800" y="4240800"/>
            <a:ext cx="1256760" cy="534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1 Rectángulo"/>
          <p:cNvSpPr/>
          <p:nvPr/>
        </p:nvSpPr>
        <p:spPr>
          <a:xfrm>
            <a:off x="14400" y="5589720"/>
            <a:ext cx="899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Los aminoácidos absorbidos son transportados como aminoácidos libres por la sangre principalmente hacia el hígado, que es el sitio primario del metabolismo de los aminoácidos y a otros órganos o tejidos para su utilizació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istribución de los aminoácidos en el período postprand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773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tamina y Asparagina: </a:t>
            </a:r>
            <a:r>
              <a:rPr b="1" lang="es-ES" sz="2800" spc="-1" strike="noStrike">
                <a:solidFill>
                  <a:srgbClr val="663300"/>
                </a:solidFill>
                <a:latin typeface="Calibri"/>
              </a:rPr>
              <a:t>Intestino y riñ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minoácidos de cadena ramificada: </a:t>
            </a:r>
            <a:r>
              <a:rPr b="1" lang="es-ES" sz="2800" spc="-1" strike="noStrike">
                <a:solidFill>
                  <a:srgbClr val="663300"/>
                </a:solidFill>
                <a:latin typeface="Calibri"/>
              </a:rPr>
              <a:t>Músculo y cereb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La mayor parte de los aminoácidos: </a:t>
            </a:r>
            <a:r>
              <a:rPr b="1" lang="es-ES" sz="2800" spc="-1" strike="noStrike">
                <a:solidFill>
                  <a:srgbClr val="663300"/>
                </a:solidFill>
                <a:latin typeface="Calibri"/>
              </a:rPr>
              <a:t>Híg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229" name="3 CuadroTexto"/>
          <p:cNvSpPr/>
          <p:nvPr/>
        </p:nvSpPr>
        <p:spPr>
          <a:xfrm>
            <a:off x="1044000" y="1887480"/>
            <a:ext cx="10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Híg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Riñ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Intesti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4 CuadroTexto"/>
          <p:cNvSpPr/>
          <p:nvPr/>
        </p:nvSpPr>
        <p:spPr>
          <a:xfrm>
            <a:off x="6766200" y="5229360"/>
            <a:ext cx="227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  <a:ea typeface="Arial"/>
              </a:rPr>
              <a:t>Glutamil- ciclotransfera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5 CuadroTexto"/>
          <p:cNvSpPr/>
          <p:nvPr/>
        </p:nvSpPr>
        <p:spPr>
          <a:xfrm>
            <a:off x="822960" y="41497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  <a:ea typeface="Arial"/>
              </a:rPr>
              <a:t>Gasto: 3 AT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6 CuadroTexto"/>
          <p:cNvSpPr/>
          <p:nvPr/>
        </p:nvSpPr>
        <p:spPr>
          <a:xfrm>
            <a:off x="6172200" y="2071800"/>
            <a:ext cx="246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  <a:ea typeface="Arial"/>
              </a:rPr>
              <a:t>Mayor actividad en plasma en obstrucción biliar o daño hepát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3" name="8 Conector recto de flecha"/>
          <p:cNvCxnSpPr/>
          <p:nvPr/>
        </p:nvCxnSpPr>
        <p:spPr>
          <a:xfrm flipH="1">
            <a:off x="5148000" y="2809440"/>
            <a:ext cx="1224720" cy="76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1 CuadroTexto"/>
          <p:cNvSpPr/>
          <p:nvPr/>
        </p:nvSpPr>
        <p:spPr>
          <a:xfrm>
            <a:off x="5824080" y="61182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2 CuadroTexto"/>
          <p:cNvSpPr/>
          <p:nvPr/>
        </p:nvSpPr>
        <p:spPr>
          <a:xfrm>
            <a:off x="4123080" y="2556000"/>
            <a:ext cx="99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Calibri"/>
              </a:rPr>
              <a:t>Todos (-prolin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3 Rectángulo"/>
          <p:cNvSpPr/>
          <p:nvPr/>
        </p:nvSpPr>
        <p:spPr>
          <a:xfrm>
            <a:off x="395280" y="404640"/>
            <a:ext cx="83534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Degradación de proteínas endóge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Las proteínas endógenas cuando han cumplido su ciclo vital o sufren alteraciones por compuestos tóxicos, como radicales libres, metales pesados, etc., se degrad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El ciclo vital depende de la vida media de la proteína; por ejemplo existen proteínas d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Calibri"/>
              </a:rPr>
              <a:t>vida media corta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hormonas, antígenos, etc.) y otras d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Calibri"/>
              </a:rPr>
              <a:t>vida media larga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proteínas estructurales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Una vez degradadas, sus aminoácidos pasan a formar parte de la reserva de aminoácidos del organism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EGRADACION DE PROTEINAS ENDOGE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3322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teasas lisosomales ó CATEPSI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teasom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ALPAÍ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ASPAS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Cuadro de texto 5"/>
          <p:cNvSpPr/>
          <p:nvPr/>
        </p:nvSpPr>
        <p:spPr>
          <a:xfrm>
            <a:off x="4095720" y="1706400"/>
            <a:ext cx="4248360" cy="1105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Degradan proteínas extracelulares que ingresan por endocit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Degradan proteínas de vida media lar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Cuadro de texto 6"/>
          <p:cNvSpPr/>
          <p:nvPr/>
        </p:nvSpPr>
        <p:spPr>
          <a:xfrm>
            <a:off x="4056120" y="3068640"/>
            <a:ext cx="4327560" cy="1167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Complejos multienzimátic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Degradan proteínas de vida media cort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Cuadro de texto 8"/>
          <p:cNvSpPr/>
          <p:nvPr/>
        </p:nvSpPr>
        <p:spPr>
          <a:xfrm>
            <a:off x="4119480" y="4371840"/>
            <a:ext cx="453708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Proteasas citosólicas activadas por Ca</a:t>
            </a:r>
            <a:r>
              <a:rPr b="1" lang="es-ES" sz="2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Cuadro de texto 9"/>
          <p:cNvSpPr/>
          <p:nvPr/>
        </p:nvSpPr>
        <p:spPr>
          <a:xfrm>
            <a:off x="4135320" y="5153040"/>
            <a:ext cx="4248360" cy="10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Proteasas que participan en el proceso de muerte celular programada ó apopto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Rectángulo"/>
          <p:cNvSpPr/>
          <p:nvPr/>
        </p:nvSpPr>
        <p:spPr>
          <a:xfrm>
            <a:off x="108000" y="260280"/>
            <a:ext cx="8712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METABOLISMO DE AMINO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Los aminoácidos desempeñan muchas funciones importantes en los seres vivos ya que participan en la biosíntesis de compuestos nitrogenados tales com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nucleótidos (púricos y pirimidínico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hormonas  (tiroxina y adrenalin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enzima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orfiri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tas moléculas extraordinarias cumplen diferentes funciones dependiendo del tejido y de la ubicación celular, por ejempl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tructurales (colágeno o elastin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funcionales (Miosina del músculo, hemoglobin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otectoras (queratina del pelo y uña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atalíticas (enzimas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fensa (anticuerp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2 Rectángulo"/>
          <p:cNvSpPr/>
          <p:nvPr/>
        </p:nvSpPr>
        <p:spPr>
          <a:xfrm>
            <a:off x="534960" y="692280"/>
            <a:ext cx="78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Los aminoácidos son las unidades estructurales de las proteín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24000" y="1015920"/>
            <a:ext cx="8496000" cy="5726160"/>
          </a:xfrm>
          <a:prstGeom prst="rect">
            <a:avLst/>
          </a:prstGeom>
          <a:ln w="0">
            <a:noFill/>
          </a:ln>
        </p:spPr>
      </p:pic>
      <p:sp>
        <p:nvSpPr>
          <p:cNvPr id="244" name="3 CuadroTexto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rincipal vía de proteólisis selectiva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: las moléculas a degradar son «marcadas» por inserción de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  <a:ea typeface="Arial"/>
              </a:rPr>
              <a:t> Ubiquitina (U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4 CuadroTexto"/>
          <p:cNvSpPr/>
          <p:nvPr/>
        </p:nvSpPr>
        <p:spPr>
          <a:xfrm>
            <a:off x="6494400" y="2205000"/>
            <a:ext cx="6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  <a:ea typeface="Arial"/>
              </a:rPr>
              <a:t>Liga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5 CuadroTexto"/>
          <p:cNvSpPr/>
          <p:nvPr/>
        </p:nvSpPr>
        <p:spPr>
          <a:xfrm>
            <a:off x="6653880" y="595008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  <a:ea typeface="Arial"/>
              </a:rPr>
              <a:t>Proteaso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6 Rectángulo"/>
          <p:cNvSpPr/>
          <p:nvPr/>
        </p:nvSpPr>
        <p:spPr>
          <a:xfrm>
            <a:off x="2050920" y="3573360"/>
            <a:ext cx="217440" cy="304920"/>
          </a:xfrm>
          <a:prstGeom prst="rect">
            <a:avLst/>
          </a:prstGeom>
          <a:solidFill>
            <a:srgbClr val="dce6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1 CuadroTexto"/>
          <p:cNvSpPr/>
          <p:nvPr/>
        </p:nvSpPr>
        <p:spPr>
          <a:xfrm>
            <a:off x="4583520" y="4356000"/>
            <a:ext cx="152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  <a:ea typeface="Arial"/>
              </a:rPr>
              <a:t>4 ANILL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  <a:ea typeface="Arial"/>
              </a:rPr>
              <a:t>CON 7 SUBUNIDAD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9" name="3 Conector recto de flecha"/>
          <p:cNvCxnSpPr/>
          <p:nvPr/>
        </p:nvCxnSpPr>
        <p:spPr>
          <a:xfrm>
            <a:off x="5748120" y="4814640"/>
            <a:ext cx="68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4 CuadroTexto"/>
          <p:cNvSpPr/>
          <p:nvPr/>
        </p:nvSpPr>
        <p:spPr>
          <a:xfrm>
            <a:off x="5752440" y="4556160"/>
            <a:ext cx="6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  <a:ea typeface="Arial"/>
              </a:rPr>
              <a:t>ATPas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5 CuadroTexto"/>
          <p:cNvSpPr/>
          <p:nvPr/>
        </p:nvSpPr>
        <p:spPr>
          <a:xfrm>
            <a:off x="5060880" y="500544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Ub hidrolas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7" descr=""/>
          <p:cNvPicPr/>
          <p:nvPr/>
        </p:nvPicPr>
        <p:blipFill>
          <a:blip r:embed="rId1"/>
          <a:stretch/>
        </p:blipFill>
        <p:spPr>
          <a:xfrm>
            <a:off x="1619280" y="0"/>
            <a:ext cx="5905440" cy="6886440"/>
          </a:xfrm>
          <a:prstGeom prst="rect">
            <a:avLst/>
          </a:prstGeom>
          <a:ln w="0">
            <a:noFill/>
          </a:ln>
        </p:spPr>
      </p:pic>
      <p:sp>
        <p:nvSpPr>
          <p:cNvPr id="253" name="1 CuadroTexto"/>
          <p:cNvSpPr/>
          <p:nvPr/>
        </p:nvSpPr>
        <p:spPr>
          <a:xfrm>
            <a:off x="1126440" y="443376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4 anillos con 7 subunid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2 CuadroTexto"/>
          <p:cNvSpPr/>
          <p:nvPr/>
        </p:nvSpPr>
        <p:spPr>
          <a:xfrm>
            <a:off x="6661440" y="374796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ATP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4 CuadroTexto"/>
          <p:cNvSpPr/>
          <p:nvPr/>
        </p:nvSpPr>
        <p:spPr>
          <a:xfrm>
            <a:off x="7101720" y="406404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UB hidrol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6 CuadroTexto"/>
          <p:cNvSpPr/>
          <p:nvPr/>
        </p:nvSpPr>
        <p:spPr>
          <a:xfrm>
            <a:off x="7099920" y="513720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Peptid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423280" cy="5329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711360" y="115920"/>
            <a:ext cx="7937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62800" cy="1152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ESTINO DE LOS AMINOÁCIDOS EN LA CEL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8232840" cy="1251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Biosíntesis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: Proteínas, Compuestos no proteico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Gluconeogén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Obtención de Energ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forma 4"/>
          <p:cNvSpPr/>
          <p:nvPr/>
        </p:nvSpPr>
        <p:spPr>
          <a:xfrm>
            <a:off x="3348000" y="2995560"/>
            <a:ext cx="217440" cy="720720"/>
          </a:xfrm>
          <a:prstGeom prst="downArrow">
            <a:avLst>
              <a:gd name="adj1" fmla="val 50000"/>
              <a:gd name="adj2" fmla="val 82864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uadro de texto 5"/>
          <p:cNvSpPr/>
          <p:nvPr/>
        </p:nvSpPr>
        <p:spPr>
          <a:xfrm>
            <a:off x="826920" y="3860640"/>
            <a:ext cx="576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Calibri"/>
                <a:ea typeface="Arial"/>
              </a:rPr>
              <a:t>Los aminoácidos deben degrada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forma 6"/>
          <p:cNvSpPr/>
          <p:nvPr/>
        </p:nvSpPr>
        <p:spPr>
          <a:xfrm>
            <a:off x="3351240" y="4511520"/>
            <a:ext cx="217440" cy="720720"/>
          </a:xfrm>
          <a:prstGeom prst="downArrow">
            <a:avLst>
              <a:gd name="adj1" fmla="val 50000"/>
              <a:gd name="adj2" fmla="val 82864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Cuadro de texto 7"/>
          <p:cNvSpPr/>
          <p:nvPr/>
        </p:nvSpPr>
        <p:spPr>
          <a:xfrm>
            <a:off x="611280" y="5342040"/>
            <a:ext cx="63370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rial"/>
                <a:ea typeface="Arial"/>
              </a:rPr>
              <a:t>1º) Pérdida del Grupo Ami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rial"/>
                <a:ea typeface="Arial"/>
              </a:rPr>
              <a:t>2º) Degradación de la cadena carbon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6" descr="Fórmula de AA"/>
          <p:cNvPicPr/>
          <p:nvPr/>
        </p:nvPicPr>
        <p:blipFill>
          <a:blip r:embed="rId1"/>
          <a:stretch/>
        </p:blipFill>
        <p:spPr>
          <a:xfrm>
            <a:off x="6781680" y="3292560"/>
            <a:ext cx="2362320" cy="2049480"/>
          </a:xfrm>
          <a:prstGeom prst="rect">
            <a:avLst/>
          </a:prstGeom>
          <a:ln w="0">
            <a:noFill/>
          </a:ln>
        </p:spPr>
      </p:pic>
      <p:sp>
        <p:nvSpPr>
          <p:cNvPr id="266" name="1 Rectángulo"/>
          <p:cNvSpPr/>
          <p:nvPr/>
        </p:nvSpPr>
        <p:spPr>
          <a:xfrm>
            <a:off x="6888960" y="3603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7" name="3 Conector recto de flecha"/>
          <p:cNvCxnSpPr/>
          <p:nvPr/>
        </p:nvCxnSpPr>
        <p:spPr>
          <a:xfrm>
            <a:off x="7216920" y="3860280"/>
            <a:ext cx="451440" cy="23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PERDIDA DEL GRUPO AM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Transamin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Desaminación Oxid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Desaminación no Oxid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n reacciones metabólicas acopl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ángulo 9"/>
          <p:cNvSpPr/>
          <p:nvPr/>
        </p:nvSpPr>
        <p:spPr>
          <a:xfrm>
            <a:off x="596880" y="189000"/>
            <a:ext cx="79218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  <a:ea typeface="Arial"/>
              </a:rPr>
              <a:t>Reacción de Transaminación: Esquema Gen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Imagen 10" descr="sp7111"/>
          <p:cNvPicPr/>
          <p:nvPr/>
        </p:nvPicPr>
        <p:blipFill>
          <a:blip r:embed="rId1"/>
          <a:srcRect l="0" t="0" r="0" b="18499"/>
          <a:stretch/>
        </p:blipFill>
        <p:spPr>
          <a:xfrm>
            <a:off x="755640" y="836640"/>
            <a:ext cx="7763040" cy="2951280"/>
          </a:xfrm>
          <a:prstGeom prst="rect">
            <a:avLst/>
          </a:prstGeom>
          <a:ln w="0">
            <a:noFill/>
          </a:ln>
        </p:spPr>
      </p:pic>
      <p:sp>
        <p:nvSpPr>
          <p:cNvPr id="272" name="Cuadro de texto 11"/>
          <p:cNvSpPr/>
          <p:nvPr/>
        </p:nvSpPr>
        <p:spPr>
          <a:xfrm>
            <a:off x="404640" y="378936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L-Glutamato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- cetoácido              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-cetoglutarato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L- Aminoáci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1 Rectángulo"/>
          <p:cNvSpPr/>
          <p:nvPr/>
        </p:nvSpPr>
        <p:spPr>
          <a:xfrm>
            <a:off x="-28440" y="4797360"/>
            <a:ext cx="91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En las reacciones de transaminación ocurre la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transferencia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 de un grupo amino desde un </a:t>
            </a:r>
            <a:r>
              <a:rPr b="1" lang="es-A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-aminoácido dador a un </a:t>
            </a:r>
            <a:r>
              <a:rPr b="1" lang="es-A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-cetoácido acepto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Las enzimas que catalizan estas reacciones se denominan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MINOTRANSFERASAS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 o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TRANSAMINASAS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Estas enzimas son de naturaleza ubicua, están presentes tanto en el citosol como en las mitocondrias de las células de todos los seres vivos, animales y veget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2 Rectángulo"/>
          <p:cNvSpPr/>
          <p:nvPr/>
        </p:nvSpPr>
        <p:spPr>
          <a:xfrm>
            <a:off x="2392920" y="2727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4 Rectángulo"/>
          <p:cNvSpPr/>
          <p:nvPr/>
        </p:nvSpPr>
        <p:spPr>
          <a:xfrm>
            <a:off x="3346560" y="177336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Transamin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5 Rectángulo"/>
          <p:cNvSpPr/>
          <p:nvPr/>
        </p:nvSpPr>
        <p:spPr>
          <a:xfrm>
            <a:off x="3128040" y="2141640"/>
            <a:ext cx="185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Arial"/>
              </a:rPr>
              <a:t>Fosfato de piridox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  <a:ea typeface="Arial"/>
              </a:rPr>
              <a:t>(Vitamina B6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6 Rectángulo"/>
          <p:cNvSpPr/>
          <p:nvPr/>
        </p:nvSpPr>
        <p:spPr>
          <a:xfrm>
            <a:off x="2887560" y="417528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Glutamato Aminotransfer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ángulo 4"/>
          <p:cNvSpPr/>
          <p:nvPr/>
        </p:nvSpPr>
        <p:spPr>
          <a:xfrm>
            <a:off x="611280" y="620640"/>
            <a:ext cx="7772400" cy="5715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Las reacciones de transaminación son fácilmente 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reversibles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y son muy importantes en el metabolismo prote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Todos los aminoácidos (excepto serina y treonina) participan en reacciones de transaminación con los 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α-cetoácidos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:  piruvato                                  alanina                             oxalacetato                            aspartato                              α-cetoglutarato                     glutamato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ínea 5"/>
          <p:cNvSpPr/>
          <p:nvPr/>
        </p:nvSpPr>
        <p:spPr>
          <a:xfrm>
            <a:off x="3419640" y="450864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Línea 6"/>
          <p:cNvSpPr/>
          <p:nvPr/>
        </p:nvSpPr>
        <p:spPr>
          <a:xfrm>
            <a:off x="3708360" y="501336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Línea 7"/>
          <p:cNvSpPr/>
          <p:nvPr/>
        </p:nvSpPr>
        <p:spPr>
          <a:xfrm>
            <a:off x="3851280" y="5516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Línea 8"/>
          <p:cNvSpPr/>
          <p:nvPr/>
        </p:nvSpPr>
        <p:spPr>
          <a:xfrm>
            <a:off x="3492360" y="4653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Línea 9"/>
          <p:cNvSpPr/>
          <p:nvPr/>
        </p:nvSpPr>
        <p:spPr>
          <a:xfrm>
            <a:off x="3708360" y="51577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Línea 10"/>
          <p:cNvSpPr/>
          <p:nvPr/>
        </p:nvSpPr>
        <p:spPr>
          <a:xfrm>
            <a:off x="3851280" y="5661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Grupo 9" descr=""/>
          <p:cNvPicPr/>
          <p:nvPr/>
        </p:nvPicPr>
        <p:blipFill>
          <a:blip r:embed="rId1"/>
          <a:stretch/>
        </p:blipFill>
        <p:spPr>
          <a:xfrm>
            <a:off x="195120" y="1773360"/>
            <a:ext cx="8753760" cy="4895640"/>
          </a:xfrm>
          <a:prstGeom prst="rect">
            <a:avLst/>
          </a:prstGeom>
          <a:ln w="0">
            <a:noFill/>
          </a:ln>
        </p:spPr>
      </p:pic>
      <p:sp>
        <p:nvSpPr>
          <p:cNvPr id="286" name="Cuadro de texto 10"/>
          <p:cNvSpPr/>
          <p:nvPr/>
        </p:nvSpPr>
        <p:spPr>
          <a:xfrm>
            <a:off x="0" y="115920"/>
            <a:ext cx="9144000" cy="132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libri"/>
                <a:ea typeface="Arial"/>
              </a:rPr>
              <a:t>GPT (Glutámico Pirúvico Transamina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libri"/>
                <a:ea typeface="Arial"/>
              </a:rPr>
              <a:t>GOT (Glutámico Oxalacetico Transaminas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TRANSAMINASAS DE INTERES CLIN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Infarto de Miocardio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Glutámico Oxalacetico Transaminas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GOT)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o Aspartato aminotransferasa (A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umentada en afecciones cardíacas y hepáticas (principalmente  hepatitis con necros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Afecciones Hepáticas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Glutámico Pirúvico Transaminas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GPT)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o Alanina aminotransferasa (A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Los mayores aumentos</a:t>
            </a:r>
            <a:r>
              <a:rPr b="1" i="1" lang="es-MX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se producen como consecuencia de alteraciones hepáticas</a:t>
            </a:r>
            <a:r>
              <a:rPr b="1" i="1" lang="es-MX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 colestasis, hepatitis tóxicas o vir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Relación Normal: GOT/GPT = 1 </a:t>
            </a:r>
            <a:r>
              <a:rPr b="1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 COCIENTE DE R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Hepatitis alcohólicas c/necrosis de tejido: GOT/GPT&gt;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42920" y="620640"/>
            <a:ext cx="87073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Rectángulo"/>
          <p:cNvSpPr/>
          <p:nvPr/>
        </p:nvSpPr>
        <p:spPr>
          <a:xfrm>
            <a:off x="243000" y="104760"/>
            <a:ext cx="8642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l recambio de las proteínas puede ocurrir por varias causa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orque la proteína ha cumplido su ciclo vital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orque ha sufrido un efecto deletéreo que provoca la destrucción de la misma 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n caso de ciertas enfermedades en las cuales la célula debe utilizar proteínas para cumplir funciones energética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oda proteína tiene una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VIDA MEDIA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determinada tras la cual se destruye por diferentes tipos de mecanismos en los cuales intervienen enzimas proteolític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or ejemplo</a:t>
            </a:r>
            <a:r>
              <a:rPr b="1" lang="es-A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s proteínas que forman parte d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membran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tiene una vida media de mes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quellas que cumplen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funciones de regulación ó señalización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tienen una vida media corta, de minutos u hor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32840" cy="900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esaminación Oxid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Imagen 5" descr="sp7041"/>
          <p:cNvPicPr/>
          <p:nvPr/>
        </p:nvPicPr>
        <p:blipFill>
          <a:blip r:embed="rId1"/>
          <a:srcRect l="60896" t="0" r="0" b="15322"/>
          <a:stretch/>
        </p:blipFill>
        <p:spPr>
          <a:xfrm>
            <a:off x="0" y="1341360"/>
            <a:ext cx="3632040" cy="2095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92" name="Cuadro de texto 10"/>
          <p:cNvSpPr/>
          <p:nvPr/>
        </p:nvSpPr>
        <p:spPr>
          <a:xfrm>
            <a:off x="106200" y="5958000"/>
            <a:ext cx="8928360" cy="403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Glutamato  +  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O  +  NAD(P) 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              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-Cetoglutarato +  N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 + NAD(P)H  + 2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Línea 11"/>
          <p:cNvSpPr/>
          <p:nvPr/>
        </p:nvSpPr>
        <p:spPr>
          <a:xfrm>
            <a:off x="3533760" y="6100920"/>
            <a:ext cx="1120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Cuadro de texto 12"/>
          <p:cNvSpPr/>
          <p:nvPr/>
        </p:nvSpPr>
        <p:spPr>
          <a:xfrm rot="20088000">
            <a:off x="4353480" y="1700280"/>
            <a:ext cx="2089080" cy="64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Glutamato Deshidrogen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Imagen 13" descr="sp7041"/>
          <p:cNvPicPr/>
          <p:nvPr/>
        </p:nvPicPr>
        <p:blipFill>
          <a:blip r:embed="rId4"/>
          <a:srcRect l="0" t="0" r="50000" b="15322"/>
          <a:stretch/>
        </p:blipFill>
        <p:spPr>
          <a:xfrm>
            <a:off x="4572000" y="3284640"/>
            <a:ext cx="4178160" cy="2224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96" name="Línea 15"/>
          <p:cNvSpPr/>
          <p:nvPr/>
        </p:nvSpPr>
        <p:spPr>
          <a:xfrm>
            <a:off x="3726000" y="2371320"/>
            <a:ext cx="1760040" cy="82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Línea 16"/>
          <p:cNvSpPr/>
          <p:nvPr/>
        </p:nvSpPr>
        <p:spPr>
          <a:xfrm>
            <a:off x="3643920" y="2561760"/>
            <a:ext cx="1567440" cy="725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Cuadro de texto 17"/>
          <p:cNvSpPr/>
          <p:nvPr/>
        </p:nvSpPr>
        <p:spPr>
          <a:xfrm rot="21319800">
            <a:off x="5724000" y="2491920"/>
            <a:ext cx="922680" cy="366120"/>
          </a:xfrm>
          <a:prstGeom prst="rect">
            <a:avLst/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Cuadro de texto 18"/>
          <p:cNvSpPr/>
          <p:nvPr/>
        </p:nvSpPr>
        <p:spPr>
          <a:xfrm rot="21319800">
            <a:off x="3492000" y="3141720"/>
            <a:ext cx="1149480" cy="366120"/>
          </a:xfrm>
          <a:prstGeom prst="rect">
            <a:avLst/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NADP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Línea 19"/>
          <p:cNvSpPr/>
          <p:nvPr/>
        </p:nvSpPr>
        <p:spPr>
          <a:xfrm flipH="1">
            <a:off x="3850920" y="2924280"/>
            <a:ext cx="28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Línea 20"/>
          <p:cNvSpPr/>
          <p:nvPr/>
        </p:nvSpPr>
        <p:spPr>
          <a:xfrm flipV="1">
            <a:off x="5076720" y="2708280"/>
            <a:ext cx="574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Línea 21"/>
          <p:cNvSpPr/>
          <p:nvPr/>
        </p:nvSpPr>
        <p:spPr>
          <a:xfrm flipH="1" flipV="1">
            <a:off x="3533760" y="6189480"/>
            <a:ext cx="103680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2 Rectángulo"/>
          <p:cNvSpPr/>
          <p:nvPr/>
        </p:nvSpPr>
        <p:spPr>
          <a:xfrm>
            <a:off x="3600360" y="558180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+ GD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3 Rectángulo"/>
          <p:cNvSpPr/>
          <p:nvPr/>
        </p:nvSpPr>
        <p:spPr>
          <a:xfrm>
            <a:off x="17640" y="3564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L-glutamato que contiene los grupos aminos provenientes de las reacciones anteriormente descriptas ingresa a  la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tocondria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 a través de transportadores y puede eliminar el grupo amino proveniente del aminoácido inicial a través de una reacción de  desaminación oxidativa, que se considera como la principal vía de salida del amoníac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REGULACION DE LA GLUTAMATO DESHIDROGEN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gulación alosté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( + )  ADP Y G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( - ) ATP Y G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uando se acumula ATP y GTP en la mitocondria, como consecuencia de una actividad elevada del ciclo de Krebs, se inhibe la desaminación del glutamato para no incorporar más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-cetoglutarato al cicl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Por el contrario, cuando aumentan los niveles de ADP y GDP se activa la enzima y de esa forma se produce NADH que es utilizado para la síntesis de ATP e ingresa el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α-cetoglutarato  al Ciclo de Krebs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s una enzima mitocondrial (hígado y riñó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Cuadro de texto 14"/>
          <p:cNvSpPr/>
          <p:nvPr/>
        </p:nvSpPr>
        <p:spPr>
          <a:xfrm>
            <a:off x="4211640" y="3645000"/>
            <a:ext cx="647640" cy="30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  <a:ea typeface="Arial"/>
              </a:rPr>
              <a:t>GD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368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TRANSDESAMINACION</a:t>
            </a:r>
            <a:br>
              <a:rPr sz="2800"/>
            </a:b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Es el mecanismo general de desaminación de los aminoácidos, resultante del acoplamiento de las dos enzimas: </a:t>
            </a:r>
            <a:r>
              <a:rPr b="1" i="1" lang="es-ES_tradnl" sz="2000" spc="-1" strike="noStrike">
                <a:solidFill>
                  <a:srgbClr val="ffffff"/>
                </a:solidFill>
                <a:latin typeface="Calibri"/>
              </a:rPr>
              <a:t>transaminasa</a:t>
            </a: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 y </a:t>
            </a:r>
            <a:r>
              <a:rPr b="1" i="1" lang="es-ES_tradnl" sz="2000" spc="-1" strike="noStrike">
                <a:solidFill>
                  <a:srgbClr val="ffffff"/>
                </a:solidFill>
                <a:latin typeface="Calibri"/>
              </a:rPr>
              <a:t>glutámico deshidrogena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Cuadro de texto 4"/>
          <p:cNvSpPr/>
          <p:nvPr/>
        </p:nvSpPr>
        <p:spPr>
          <a:xfrm>
            <a:off x="755640" y="1844640"/>
            <a:ext cx="27352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TRANSAMINAC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Cuadro de texto 5"/>
          <p:cNvSpPr/>
          <p:nvPr/>
        </p:nvSpPr>
        <p:spPr>
          <a:xfrm>
            <a:off x="4932360" y="1844640"/>
            <a:ext cx="273528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DESAMINACION OXIDA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forma 6"/>
          <p:cNvSpPr/>
          <p:nvPr/>
        </p:nvSpPr>
        <p:spPr>
          <a:xfrm>
            <a:off x="4643280" y="4653000"/>
            <a:ext cx="216000" cy="1440000"/>
          </a:xfrm>
          <a:prstGeom prst="downArrow">
            <a:avLst>
              <a:gd name="adj1" fmla="val 50000"/>
              <a:gd name="adj2" fmla="val 16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Cuadro de texto 7"/>
          <p:cNvSpPr/>
          <p:nvPr/>
        </p:nvSpPr>
        <p:spPr>
          <a:xfrm>
            <a:off x="2916360" y="6165720"/>
            <a:ext cx="3889080" cy="36828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ELIMACION DEL GRUPO AMI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Cuadro de texto 8"/>
          <p:cNvSpPr/>
          <p:nvPr/>
        </p:nvSpPr>
        <p:spPr>
          <a:xfrm>
            <a:off x="324000" y="3068640"/>
            <a:ext cx="17269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minoáci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Cuadro de texto 9"/>
          <p:cNvSpPr/>
          <p:nvPr/>
        </p:nvSpPr>
        <p:spPr>
          <a:xfrm>
            <a:off x="2411280" y="3068640"/>
            <a:ext cx="216072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etoglutara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Cuadro de texto 10"/>
          <p:cNvSpPr/>
          <p:nvPr/>
        </p:nvSpPr>
        <p:spPr>
          <a:xfrm>
            <a:off x="2700360" y="4076640"/>
            <a:ext cx="187164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Cuadro de texto 11"/>
          <p:cNvSpPr/>
          <p:nvPr/>
        </p:nvSpPr>
        <p:spPr>
          <a:xfrm>
            <a:off x="324000" y="4076640"/>
            <a:ext cx="180000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etoáci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Cuadro de texto 12"/>
          <p:cNvSpPr/>
          <p:nvPr/>
        </p:nvSpPr>
        <p:spPr>
          <a:xfrm>
            <a:off x="5435640" y="3141720"/>
            <a:ext cx="144000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NADH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Cuadro de texto 13"/>
          <p:cNvSpPr/>
          <p:nvPr/>
        </p:nvSpPr>
        <p:spPr>
          <a:xfrm>
            <a:off x="5580000" y="3933720"/>
            <a:ext cx="936720" cy="368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NAD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forma 15"/>
          <p:cNvSpPr/>
          <p:nvPr/>
        </p:nvSpPr>
        <p:spPr>
          <a:xfrm>
            <a:off x="2124000" y="3500280"/>
            <a:ext cx="144360" cy="576360"/>
          </a:xfrm>
          <a:custGeom>
            <a:avLst/>
            <a:gdLst>
              <a:gd name="textAreaLeft" fmla="*/ 19080 w 144360"/>
              <a:gd name="textAreaRight" fmla="*/ 125280 w 144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forma 16"/>
          <p:cNvSpPr/>
          <p:nvPr/>
        </p:nvSpPr>
        <p:spPr>
          <a:xfrm>
            <a:off x="2340000" y="3500280"/>
            <a:ext cx="144360" cy="64944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9440"/>
              <a:gd name="textAreaBottom" fmla="*/ 47088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forma 18"/>
          <p:cNvSpPr/>
          <p:nvPr/>
        </p:nvSpPr>
        <p:spPr>
          <a:xfrm rot="10447800">
            <a:off x="4792680" y="3282480"/>
            <a:ext cx="209520" cy="938160"/>
          </a:xfrm>
          <a:custGeom>
            <a:avLst/>
            <a:gdLst>
              <a:gd name="textAreaLeft" fmla="*/ 28080 w 209520"/>
              <a:gd name="textAreaRight" fmla="*/ 181440 w 209520"/>
              <a:gd name="textAreaTop" fmla="*/ 164160 h 938160"/>
              <a:gd name="textAreaBottom" fmla="*/ 680400 h 9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forma 19"/>
          <p:cNvSpPr/>
          <p:nvPr/>
        </p:nvSpPr>
        <p:spPr>
          <a:xfrm rot="10800000">
            <a:off x="5105520" y="3284280"/>
            <a:ext cx="185760" cy="936360"/>
          </a:xfrm>
          <a:custGeom>
            <a:avLst/>
            <a:gdLst>
              <a:gd name="textAreaLeft" fmla="*/ 24840 w 185760"/>
              <a:gd name="textAreaRight" fmla="*/ 160920 w 18576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Cuadro de texto 20"/>
          <p:cNvSpPr/>
          <p:nvPr/>
        </p:nvSpPr>
        <p:spPr>
          <a:xfrm>
            <a:off x="7524720" y="3141720"/>
            <a:ext cx="863640" cy="440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  <a:ea typeface="Arial"/>
              </a:rPr>
              <a:t>NH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Calibri"/>
                <a:ea typeface="Arial"/>
              </a:rPr>
              <a:t>4</a:t>
            </a:r>
            <a:r>
              <a:rPr b="1" lang="es-ES" sz="20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Cuadro de texto 21"/>
          <p:cNvSpPr/>
          <p:nvPr/>
        </p:nvSpPr>
        <p:spPr>
          <a:xfrm>
            <a:off x="7020000" y="32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AMINOOXIDAS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lavoproteínas que producen desaminación oxidativa de los isómeros D- de los amino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Imagen 5" descr="sp7171"/>
          <p:cNvPicPr/>
          <p:nvPr/>
        </p:nvPicPr>
        <p:blipFill>
          <a:blip r:embed="rId2"/>
          <a:stretch/>
        </p:blipFill>
        <p:spPr>
          <a:xfrm>
            <a:off x="539640" y="2492280"/>
            <a:ext cx="7993080" cy="20732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663300"/>
            </a:outerShdw>
          </a:effectLst>
        </p:spPr>
      </p:pic>
      <p:sp>
        <p:nvSpPr>
          <p:cNvPr id="328" name="Cuadro de texto 6"/>
          <p:cNvSpPr/>
          <p:nvPr/>
        </p:nvSpPr>
        <p:spPr>
          <a:xfrm>
            <a:off x="611280" y="5362560"/>
            <a:ext cx="7561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Estas flavoproteínas se encuentran en los  peroxisomas junto con las catal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uadro de texto 7"/>
          <p:cNvSpPr/>
          <p:nvPr/>
        </p:nvSpPr>
        <p:spPr>
          <a:xfrm>
            <a:off x="826920" y="4724280"/>
            <a:ext cx="734544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Los D-Aminoácidos utilizan enzimas cuya coenzima es el F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Cuadro de texto 8"/>
          <p:cNvSpPr/>
          <p:nvPr/>
        </p:nvSpPr>
        <p:spPr>
          <a:xfrm>
            <a:off x="4060800" y="3884760"/>
            <a:ext cx="108108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Catala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REACCIONES DE DESAMINACION NO OXID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32840" cy="452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Serina deshidrat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663300"/>
                </a:solidFill>
                <a:latin typeface="Calibri"/>
              </a:rPr>
              <a:t>L-Serina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                                                      </a:t>
            </a:r>
            <a:r>
              <a:rPr b="1" lang="es-ES" sz="2400" spc="-1" strike="noStrike">
                <a:solidFill>
                  <a:srgbClr val="663300"/>
                </a:solidFill>
                <a:latin typeface="Calibri"/>
              </a:rPr>
              <a:t>Piruvato  +  NH</a:t>
            </a:r>
            <a:r>
              <a:rPr b="1" lang="es-ES" sz="2400" spc="-1" strike="noStrike" baseline="-25000">
                <a:solidFill>
                  <a:srgbClr val="663300"/>
                </a:solidFill>
                <a:latin typeface="Calibri"/>
              </a:rPr>
              <a:t>4</a:t>
            </a:r>
            <a:r>
              <a:rPr b="1" lang="es-ES" sz="2400" spc="-1" strike="noStrike" baseline="30000">
                <a:solidFill>
                  <a:srgbClr val="6633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Treonina deshidrat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s-ES" sz="2400" spc="-1" strike="noStrike">
                <a:solidFill>
                  <a:srgbClr val="663300"/>
                </a:solidFill>
                <a:latin typeface="Calibri"/>
              </a:rPr>
              <a:t>L-Treonina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663300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663300"/>
                </a:solidFill>
                <a:latin typeface="Calibri"/>
              </a:rPr>
              <a:t>- cetobutirato  +   NH</a:t>
            </a:r>
            <a:r>
              <a:rPr b="1" lang="es-ES" sz="2400" spc="-1" strike="noStrike" baseline="-25000">
                <a:solidFill>
                  <a:srgbClr val="663300"/>
                </a:solidFill>
                <a:latin typeface="Calibri"/>
              </a:rPr>
              <a:t>4</a:t>
            </a:r>
            <a:r>
              <a:rPr b="1" lang="es-ES" sz="2400" spc="-1" strike="noStrike" baseline="30000">
                <a:solidFill>
                  <a:srgbClr val="6633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Línea 5"/>
          <p:cNvSpPr/>
          <p:nvPr/>
        </p:nvSpPr>
        <p:spPr>
          <a:xfrm>
            <a:off x="3191040" y="278136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Línea 6"/>
          <p:cNvSpPr/>
          <p:nvPr/>
        </p:nvSpPr>
        <p:spPr>
          <a:xfrm>
            <a:off x="3419640" y="508464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uadro de texto 7"/>
          <p:cNvSpPr/>
          <p:nvPr/>
        </p:nvSpPr>
        <p:spPr>
          <a:xfrm>
            <a:off x="2995560" y="2427120"/>
            <a:ext cx="1644840" cy="2764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alibri"/>
                <a:ea typeface="Arial"/>
              </a:rPr>
              <a:t>Fosfato de Piridox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Cuadro de texto 7"/>
          <p:cNvSpPr/>
          <p:nvPr/>
        </p:nvSpPr>
        <p:spPr>
          <a:xfrm>
            <a:off x="3130560" y="4653000"/>
            <a:ext cx="1646280" cy="2764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alibri"/>
                <a:ea typeface="Arial"/>
              </a:rPr>
              <a:t>Fosfato de Piridox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Origen del amonía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3556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desaminación: oxidativa y no oxidativ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Bacterias intestinales y posterior absor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uadro de texto 4"/>
          <p:cNvSpPr/>
          <p:nvPr/>
        </p:nvSpPr>
        <p:spPr>
          <a:xfrm>
            <a:off x="1619280" y="5661000"/>
            <a:ext cx="5473800" cy="7855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EL AMONIACO Ó  ION AMONIO ES TOXIC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DEBE SER ELIMIN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Lucida Sans"/>
              </a:rPr>
              <a:t>CLASIFICACIÓN de AMINOÁC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09080" cy="5040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lifátic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glicina, alanina, valina, leucina, isoleuc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idroxiaminoácid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serina y treon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icarboxílicos y sus amina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ácido aspártico y asparagina, ácido glutámico y glutam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Básic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: lisina, arginina, histid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romátic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fenilalanina, tirosina, triptóf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zufrad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cisteína, metion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minoácid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: prolina, hidroxiprol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n 2" descr="http://bifi.es/jsancho/estructuramacromoleculas/2aminoacidos/clasificacion2.JPG"/>
          <p:cNvPicPr/>
          <p:nvPr/>
        </p:nvPicPr>
        <p:blipFill>
          <a:blip r:embed="rId1"/>
          <a:stretch/>
        </p:blipFill>
        <p:spPr>
          <a:xfrm>
            <a:off x="179280" y="176040"/>
            <a:ext cx="8798040" cy="64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ángulo 35"/>
          <p:cNvSpPr/>
          <p:nvPr/>
        </p:nvSpPr>
        <p:spPr>
          <a:xfrm>
            <a:off x="324000" y="402840"/>
            <a:ext cx="8496000" cy="8690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Fuentes exógenas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Fuentes endógenas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(aprox.70 g/ día)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   (aprox. 140 g/ dí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Proteínas de la dieta 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                Proteínas tisul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ángulo 41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ángulo 44"/>
          <p:cNvSpPr/>
          <p:nvPr/>
        </p:nvSpPr>
        <p:spPr>
          <a:xfrm>
            <a:off x="-31680" y="4156200"/>
            <a:ext cx="24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ínea 45"/>
          <p:cNvSpPr/>
          <p:nvPr/>
        </p:nvSpPr>
        <p:spPr>
          <a:xfrm>
            <a:off x="1477800" y="1487520"/>
            <a:ext cx="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ínea 47"/>
          <p:cNvSpPr/>
          <p:nvPr/>
        </p:nvSpPr>
        <p:spPr>
          <a:xfrm>
            <a:off x="6805440" y="15588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ángulo 48"/>
          <p:cNvSpPr/>
          <p:nvPr/>
        </p:nvSpPr>
        <p:spPr>
          <a:xfrm>
            <a:off x="611280" y="1998720"/>
            <a:ext cx="8137440" cy="366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Digestión y absorción 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Degrad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forma 49"/>
          <p:cNvSpPr/>
          <p:nvPr/>
        </p:nvSpPr>
        <p:spPr>
          <a:xfrm>
            <a:off x="2797200" y="2217600"/>
            <a:ext cx="3382920" cy="865440"/>
          </a:xfrm>
          <a:custGeom>
            <a:avLst/>
            <a:gdLst>
              <a:gd name="textAreaLeft" fmla="*/ 772200 w 3382920"/>
              <a:gd name="textAreaRight" fmla="*/ 2610720 w 3382920"/>
              <a:gd name="textAreaTop" fmla="*/ 197640 h 865440"/>
              <a:gd name="textAreaBottom" fmla="*/ 667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3300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AMINOACI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forma 53"/>
          <p:cNvSpPr/>
          <p:nvPr/>
        </p:nvSpPr>
        <p:spPr>
          <a:xfrm flipH="1" rot="16200000">
            <a:off x="6371280" y="2419920"/>
            <a:ext cx="459000" cy="457200"/>
          </a:xfrm>
          <a:custGeom>
            <a:avLst/>
            <a:gdLst>
              <a:gd name="textAreaLeft" fmla="*/ -360 w 459000"/>
              <a:gd name="textAreaRight" fmla="*/ 405720 w 459000"/>
              <a:gd name="textAreaTop" fmla="*/ 36684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17220" y="0"/>
                </a:moveTo>
                <a:lnTo>
                  <a:pt x="12840" y="5400"/>
                </a:lnTo>
                <a:lnTo>
                  <a:pt x="15330" y="5400"/>
                </a:lnTo>
                <a:lnTo>
                  <a:pt x="15330" y="17327"/>
                </a:lnTo>
                <a:lnTo>
                  <a:pt x="0" y="17327"/>
                </a:lnTo>
                <a:lnTo>
                  <a:pt x="0" y="21600"/>
                </a:lnTo>
                <a:lnTo>
                  <a:pt x="19110" y="21600"/>
                </a:lnTo>
                <a:lnTo>
                  <a:pt x="19110" y="5400"/>
                </a:lnTo>
                <a:lnTo>
                  <a:pt x="21600" y="5400"/>
                </a:lnTo>
                <a:lnTo>
                  <a:pt x="1722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forma 54"/>
          <p:cNvSpPr/>
          <p:nvPr/>
        </p:nvSpPr>
        <p:spPr>
          <a:xfrm rot="5400000">
            <a:off x="1475640" y="2421720"/>
            <a:ext cx="458640" cy="457200"/>
          </a:xfrm>
          <a:custGeom>
            <a:avLst/>
            <a:gdLst>
              <a:gd name="textAreaLeft" fmla="*/ 0 w 458640"/>
              <a:gd name="textAreaRight" fmla="*/ 406080 w 458640"/>
              <a:gd name="textAreaTop" fmla="*/ 36684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17220" y="0"/>
                </a:moveTo>
                <a:lnTo>
                  <a:pt x="12840" y="5400"/>
                </a:lnTo>
                <a:lnTo>
                  <a:pt x="15330" y="5400"/>
                </a:lnTo>
                <a:lnTo>
                  <a:pt x="15330" y="17327"/>
                </a:lnTo>
                <a:lnTo>
                  <a:pt x="0" y="17327"/>
                </a:lnTo>
                <a:lnTo>
                  <a:pt x="0" y="21600"/>
                </a:lnTo>
                <a:lnTo>
                  <a:pt x="19110" y="21600"/>
                </a:lnTo>
                <a:lnTo>
                  <a:pt x="19110" y="5400"/>
                </a:lnTo>
                <a:lnTo>
                  <a:pt x="21600" y="5400"/>
                </a:lnTo>
                <a:lnTo>
                  <a:pt x="1722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upo 55"/>
          <p:cNvGrpSpPr/>
          <p:nvPr/>
        </p:nvGrpSpPr>
        <p:grpSpPr>
          <a:xfrm>
            <a:off x="2276640" y="3208320"/>
            <a:ext cx="4327200" cy="1336680"/>
            <a:chOff x="2276640" y="3208320"/>
            <a:chExt cx="4327200" cy="1336680"/>
          </a:xfrm>
        </p:grpSpPr>
        <p:sp>
          <p:nvSpPr>
            <p:cNvPr id="65" name="Rectángulo 56"/>
            <p:cNvSpPr/>
            <p:nvPr/>
          </p:nvSpPr>
          <p:spPr>
            <a:xfrm>
              <a:off x="2276640" y="3515400"/>
              <a:ext cx="4327200" cy="5720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ínea 57"/>
            <p:cNvSpPr/>
            <p:nvPr/>
          </p:nvSpPr>
          <p:spPr>
            <a:xfrm>
              <a:off x="4470120" y="3208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Autoforma 58"/>
            <p:cNvSpPr/>
            <p:nvPr/>
          </p:nvSpPr>
          <p:spPr>
            <a:xfrm rot="5400000">
              <a:off x="4933080" y="3955680"/>
              <a:ext cx="457560" cy="721080"/>
            </a:xfrm>
            <a:custGeom>
              <a:avLst/>
              <a:gdLst>
                <a:gd name="textAreaLeft" fmla="*/ 0 w 457560"/>
                <a:gd name="textAreaRight" fmla="*/ 405000 w 457560"/>
                <a:gd name="textAreaTop" fmla="*/ 578880 h 721080"/>
                <a:gd name="textAreaBottom" fmla="*/ 721440 h 7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0" y="0"/>
                  </a:moveTo>
                  <a:lnTo>
                    <a:pt x="12840" y="5400"/>
                  </a:lnTo>
                  <a:lnTo>
                    <a:pt x="15330" y="5400"/>
                  </a:lnTo>
                  <a:lnTo>
                    <a:pt x="15330" y="17327"/>
                  </a:lnTo>
                  <a:lnTo>
                    <a:pt x="0" y="17327"/>
                  </a:lnTo>
                  <a:lnTo>
                    <a:pt x="0" y="21600"/>
                  </a:lnTo>
                  <a:lnTo>
                    <a:pt x="19110" y="21600"/>
                  </a:lnTo>
                  <a:lnTo>
                    <a:pt x="19110" y="5400"/>
                  </a:lnTo>
                  <a:lnTo>
                    <a:pt x="21600" y="5400"/>
                  </a:lnTo>
                  <a:lnTo>
                    <a:pt x="17220" y="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Autoforma 59"/>
            <p:cNvSpPr/>
            <p:nvPr/>
          </p:nvSpPr>
          <p:spPr>
            <a:xfrm flipH="1" rot="16200000">
              <a:off x="3489840" y="3955680"/>
              <a:ext cx="457560" cy="721080"/>
            </a:xfrm>
            <a:custGeom>
              <a:avLst/>
              <a:gdLst>
                <a:gd name="textAreaLeft" fmla="*/ 0 w 457560"/>
                <a:gd name="textAreaRight" fmla="*/ 405000 w 457560"/>
                <a:gd name="textAreaTop" fmla="*/ 578880 h 721080"/>
                <a:gd name="textAreaBottom" fmla="*/ 721440 h 7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0" y="0"/>
                  </a:moveTo>
                  <a:lnTo>
                    <a:pt x="12840" y="5400"/>
                  </a:lnTo>
                  <a:lnTo>
                    <a:pt x="15330" y="5400"/>
                  </a:lnTo>
                  <a:lnTo>
                    <a:pt x="15330" y="17327"/>
                  </a:lnTo>
                  <a:lnTo>
                    <a:pt x="0" y="17327"/>
                  </a:lnTo>
                  <a:lnTo>
                    <a:pt x="0" y="21600"/>
                  </a:lnTo>
                  <a:lnTo>
                    <a:pt x="19110" y="21600"/>
                  </a:lnTo>
                  <a:lnTo>
                    <a:pt x="19110" y="5400"/>
                  </a:lnTo>
                  <a:lnTo>
                    <a:pt x="21600" y="5400"/>
                  </a:lnTo>
                  <a:lnTo>
                    <a:pt x="17220" y="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Rectángulo 60"/>
          <p:cNvSpPr/>
          <p:nvPr/>
        </p:nvSpPr>
        <p:spPr>
          <a:xfrm>
            <a:off x="2371680" y="3631680"/>
            <a:ext cx="4006800" cy="366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  <a:ea typeface="Arial"/>
              </a:rPr>
              <a:t>Transaminación y/ó Desaminación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ínea 62"/>
          <p:cNvSpPr/>
          <p:nvPr/>
        </p:nvSpPr>
        <p:spPr>
          <a:xfrm flipH="1">
            <a:off x="1042560" y="5348160"/>
            <a:ext cx="22860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ínea 61"/>
          <p:cNvSpPr/>
          <p:nvPr/>
        </p:nvSpPr>
        <p:spPr>
          <a:xfrm>
            <a:off x="2641680" y="5346720"/>
            <a:ext cx="21600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ángulo 63"/>
          <p:cNvSpPr/>
          <p:nvPr/>
        </p:nvSpPr>
        <p:spPr>
          <a:xfrm>
            <a:off x="826920" y="4729320"/>
            <a:ext cx="7921800" cy="59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Degradación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Biosínte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ángulo 64"/>
          <p:cNvSpPr/>
          <p:nvPr/>
        </p:nvSpPr>
        <p:spPr>
          <a:xfrm>
            <a:off x="-281160" y="3436920"/>
            <a:ext cx="24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ángulo 65"/>
          <p:cNvSpPr/>
          <p:nvPr/>
        </p:nvSpPr>
        <p:spPr>
          <a:xfrm>
            <a:off x="482760" y="5805720"/>
            <a:ext cx="312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α - cetoácidos    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 Amoníac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ángulo 68"/>
          <p:cNvSpPr/>
          <p:nvPr/>
        </p:nvSpPr>
        <p:spPr>
          <a:xfrm>
            <a:off x="5510160" y="5301720"/>
            <a:ext cx="108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ángulo 70"/>
          <p:cNvSpPr/>
          <p:nvPr/>
        </p:nvSpPr>
        <p:spPr>
          <a:xfrm>
            <a:off x="5154120" y="5589720"/>
            <a:ext cx="2815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minoácidos No esencia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ángulo 71"/>
          <p:cNvSpPr/>
          <p:nvPr/>
        </p:nvSpPr>
        <p:spPr>
          <a:xfrm>
            <a:off x="5079240" y="5877000"/>
            <a:ext cx="326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Constituyentes nitrogenados no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ángulo 72"/>
          <p:cNvSpPr/>
          <p:nvPr/>
        </p:nvSpPr>
        <p:spPr>
          <a:xfrm>
            <a:off x="5011200" y="6092280"/>
            <a:ext cx="3118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Proteicos: purinas, pirimidina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ángulo 73"/>
          <p:cNvSpPr/>
          <p:nvPr/>
        </p:nvSpPr>
        <p:spPr>
          <a:xfrm>
            <a:off x="5075280" y="6353280"/>
            <a:ext cx="13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porfirina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ángulo 74"/>
          <p:cNvSpPr/>
          <p:nvPr/>
        </p:nvSpPr>
        <p:spPr>
          <a:xfrm>
            <a:off x="6177600" y="6353280"/>
            <a:ext cx="158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ácidos biliares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8" descr=""/>
          <p:cNvPicPr/>
          <p:nvPr/>
        </p:nvPicPr>
        <p:blipFill>
          <a:blip r:embed="rId2"/>
          <a:stretch/>
        </p:blipFill>
        <p:spPr>
          <a:xfrm>
            <a:off x="7051680" y="2827440"/>
            <a:ext cx="19288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uadro de texto 12"/>
          <p:cNvSpPr/>
          <p:nvPr/>
        </p:nvSpPr>
        <p:spPr>
          <a:xfrm>
            <a:off x="468360" y="549360"/>
            <a:ext cx="201600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α - cetoáci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uadro de texto 13"/>
          <p:cNvSpPr/>
          <p:nvPr/>
        </p:nvSpPr>
        <p:spPr>
          <a:xfrm>
            <a:off x="2843280" y="1700280"/>
            <a:ext cx="1152360" cy="31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uadro de texto 14"/>
          <p:cNvSpPr/>
          <p:nvPr/>
        </p:nvSpPr>
        <p:spPr>
          <a:xfrm>
            <a:off x="250920" y="1844640"/>
            <a:ext cx="1368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Oxid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uadro de texto 15"/>
          <p:cNvSpPr/>
          <p:nvPr/>
        </p:nvSpPr>
        <p:spPr>
          <a:xfrm>
            <a:off x="3276720" y="3068640"/>
            <a:ext cx="143964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Cuerpos cetónic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uadro de texto 16"/>
          <p:cNvSpPr/>
          <p:nvPr/>
        </p:nvSpPr>
        <p:spPr>
          <a:xfrm>
            <a:off x="6588000" y="476280"/>
            <a:ext cx="136872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Amonía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uadro de texto 17"/>
          <p:cNvSpPr/>
          <p:nvPr/>
        </p:nvSpPr>
        <p:spPr>
          <a:xfrm>
            <a:off x="2627280" y="5589720"/>
            <a:ext cx="2232000" cy="34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 + 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O – A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uadro de texto 18"/>
          <p:cNvSpPr/>
          <p:nvPr/>
        </p:nvSpPr>
        <p:spPr>
          <a:xfrm>
            <a:off x="1403280" y="4437000"/>
            <a:ext cx="201636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uadro de texto 19"/>
          <p:cNvSpPr/>
          <p:nvPr/>
        </p:nvSpPr>
        <p:spPr>
          <a:xfrm>
            <a:off x="611280" y="3213000"/>
            <a:ext cx="151128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Acetil Co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uadro de texto 20"/>
          <p:cNvSpPr/>
          <p:nvPr/>
        </p:nvSpPr>
        <p:spPr>
          <a:xfrm>
            <a:off x="6877080" y="3429000"/>
            <a:ext cx="1368360" cy="64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Excreción re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uadro de texto 21"/>
          <p:cNvSpPr/>
          <p:nvPr/>
        </p:nvSpPr>
        <p:spPr>
          <a:xfrm>
            <a:off x="6659640" y="2060640"/>
            <a:ext cx="1368360" cy="368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U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ínea 26"/>
          <p:cNvSpPr/>
          <p:nvPr/>
        </p:nvSpPr>
        <p:spPr>
          <a:xfrm>
            <a:off x="684360" y="981000"/>
            <a:ext cx="0" cy="6476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ínea 27"/>
          <p:cNvSpPr/>
          <p:nvPr/>
        </p:nvSpPr>
        <p:spPr>
          <a:xfrm>
            <a:off x="2338560" y="3386160"/>
            <a:ext cx="794880" cy="1440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ínea 28"/>
          <p:cNvSpPr/>
          <p:nvPr/>
        </p:nvSpPr>
        <p:spPr>
          <a:xfrm>
            <a:off x="2488320" y="990720"/>
            <a:ext cx="592560" cy="62820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ínea 29"/>
          <p:cNvSpPr/>
          <p:nvPr/>
        </p:nvSpPr>
        <p:spPr>
          <a:xfrm>
            <a:off x="1116000" y="2349360"/>
            <a:ext cx="0" cy="64800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ínea 30"/>
          <p:cNvSpPr/>
          <p:nvPr/>
        </p:nvSpPr>
        <p:spPr>
          <a:xfrm>
            <a:off x="1908000" y="3645000"/>
            <a:ext cx="0" cy="6476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ínea 31"/>
          <p:cNvSpPr/>
          <p:nvPr/>
        </p:nvSpPr>
        <p:spPr>
          <a:xfrm>
            <a:off x="3276720" y="4869000"/>
            <a:ext cx="0" cy="6476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ínea 32"/>
          <p:cNvSpPr/>
          <p:nvPr/>
        </p:nvSpPr>
        <p:spPr>
          <a:xfrm>
            <a:off x="7236000" y="981000"/>
            <a:ext cx="0" cy="8636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ínea 33"/>
          <p:cNvSpPr/>
          <p:nvPr/>
        </p:nvSpPr>
        <p:spPr>
          <a:xfrm>
            <a:off x="7308720" y="2565360"/>
            <a:ext cx="0" cy="8636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1 Rectángulo"/>
          <p:cNvSpPr/>
          <p:nvPr/>
        </p:nvSpPr>
        <p:spPr>
          <a:xfrm>
            <a:off x="4890960" y="4454640"/>
            <a:ext cx="414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En los organismos, el 90% de las necesidades energéticas son cubiertas por los hidratos de carbono y las gras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El 10% al 15% restante es proporcionado por la oxidación de los aminoácid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1f497d"/>
                </a:solidFill>
                <a:latin typeface="Calibri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ángulo 5"/>
          <p:cNvSpPr/>
          <p:nvPr/>
        </p:nvSpPr>
        <p:spPr>
          <a:xfrm>
            <a:off x="171360" y="-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Imagen 6" descr="irma"/>
          <p:cNvPicPr/>
          <p:nvPr/>
        </p:nvPicPr>
        <p:blipFill>
          <a:blip r:embed="rId1"/>
          <a:stretch/>
        </p:blipFill>
        <p:spPr>
          <a:xfrm>
            <a:off x="2050920" y="274680"/>
            <a:ext cx="6985080" cy="6507000"/>
          </a:xfrm>
          <a:prstGeom prst="rect">
            <a:avLst/>
          </a:prstGeom>
          <a:ln w="0">
            <a:noFill/>
          </a:ln>
        </p:spPr>
      </p:pic>
      <p:sp>
        <p:nvSpPr>
          <p:cNvPr id="104" name="Rectángulo 7"/>
          <p:cNvSpPr/>
          <p:nvPr/>
        </p:nvSpPr>
        <p:spPr>
          <a:xfrm>
            <a:off x="171360" y="-572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1 Rectángulo"/>
          <p:cNvSpPr/>
          <p:nvPr/>
        </p:nvSpPr>
        <p:spPr>
          <a:xfrm>
            <a:off x="0" y="1417680"/>
            <a:ext cx="2195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gestión y absorción de proteí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A diferencia de los hidratos de carbono y lípidos una parte significativa de la digestión de proteínas tiene lugar en el estóma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2 Flecha doblada hacia arriba"/>
          <p:cNvSpPr/>
          <p:nvPr/>
        </p:nvSpPr>
        <p:spPr>
          <a:xfrm>
            <a:off x="8491680" y="1938240"/>
            <a:ext cx="358560" cy="360360"/>
          </a:xfrm>
          <a:custGeom>
            <a:avLst/>
            <a:gdLst/>
            <a:ahLst/>
            <a:rect l="l" t="t" r="r" b="b"/>
            <a:pathLst>
              <a:path w="358775" h="360362">
                <a:moveTo>
                  <a:pt x="0" y="270668"/>
                </a:moveTo>
                <a:lnTo>
                  <a:pt x="224234" y="270668"/>
                </a:lnTo>
                <a:lnTo>
                  <a:pt x="224234" y="89694"/>
                </a:lnTo>
                <a:lnTo>
                  <a:pt x="179388" y="89694"/>
                </a:lnTo>
                <a:lnTo>
                  <a:pt x="269081" y="0"/>
                </a:lnTo>
                <a:lnTo>
                  <a:pt x="358775" y="89694"/>
                </a:lnTo>
                <a:lnTo>
                  <a:pt x="313928" y="89694"/>
                </a:lnTo>
                <a:lnTo>
                  <a:pt x="313928" y="360362"/>
                </a:lnTo>
                <a:lnTo>
                  <a:pt x="0" y="360362"/>
                </a:lnTo>
                <a:lnTo>
                  <a:pt x="0" y="27066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Imagen 6" descr=""/>
          <p:cNvPicPr/>
          <p:nvPr/>
        </p:nvPicPr>
        <p:blipFill>
          <a:blip r:embed="rId2"/>
          <a:stretch/>
        </p:blipFill>
        <p:spPr>
          <a:xfrm>
            <a:off x="8520120" y="1035000"/>
            <a:ext cx="401760" cy="390600"/>
          </a:xfrm>
          <a:prstGeom prst="rect">
            <a:avLst/>
          </a:prstGeom>
          <a:ln w="0">
            <a:noFill/>
          </a:ln>
        </p:spPr>
      </p:pic>
      <p:sp>
        <p:nvSpPr>
          <p:cNvPr id="108" name="3 Rectángulo"/>
          <p:cNvSpPr/>
          <p:nvPr/>
        </p:nvSpPr>
        <p:spPr>
          <a:xfrm>
            <a:off x="7236000" y="6094440"/>
            <a:ext cx="174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TRANSPORTE  MEDIADO ACTIV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4 Flecha abajo"/>
          <p:cNvSpPr/>
          <p:nvPr/>
        </p:nvSpPr>
        <p:spPr>
          <a:xfrm>
            <a:off x="8110440" y="595008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ángulo 36"/>
          <p:cNvSpPr/>
          <p:nvPr/>
        </p:nvSpPr>
        <p:spPr>
          <a:xfrm>
            <a:off x="1561680" y="5719680"/>
            <a:ext cx="64774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</a:t>
            </a:r>
            <a:r>
              <a:rPr b="1" lang="es-ES_tradnl" sz="1100" spc="-1" strike="noStrike">
                <a:solidFill>
                  <a:srgbClr val="000000"/>
                </a:solidFill>
                <a:latin typeface="Calibri"/>
                <a:ea typeface="Arial"/>
              </a:rPr>
              <a:t>-NH</a:t>
            </a:r>
            <a:r>
              <a:rPr b="1" lang="es-ES_tradnl" sz="1100" spc="-1" strike="noStrike" baseline="-30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1" lang="es-ES_trad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                NH</a:t>
            </a:r>
            <a:r>
              <a:rPr b="1" lang="es-ES_trad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s-ES_trad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-NH</a:t>
            </a:r>
            <a:r>
              <a:rPr b="1" lang="es-ES_tradnl" sz="1100" spc="-1" strike="noStrike" baseline="-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s-ES_tradnl" sz="11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ángulo 4"/>
          <p:cNvSpPr/>
          <p:nvPr/>
        </p:nvSpPr>
        <p:spPr>
          <a:xfrm>
            <a:off x="826920" y="4709520"/>
            <a:ext cx="761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83cea"/>
                </a:solidFill>
                <a:latin typeface="Calibri"/>
                <a:ea typeface="Arial"/>
              </a:rPr>
              <a:t>Pepsinógeno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H Cl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1" lang="es-ES_tradnl" sz="2400" spc="-1" strike="noStrike">
                <a:solidFill>
                  <a:srgbClr val="383cea"/>
                </a:solidFill>
                <a:latin typeface="Calibri"/>
                <a:ea typeface="Arial"/>
              </a:rPr>
              <a:t>Pepsina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 +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  <a:ea typeface="Arial"/>
              </a:rPr>
              <a:t>resto de 42 A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ínea 5"/>
          <p:cNvSpPr/>
          <p:nvPr/>
        </p:nvSpPr>
        <p:spPr>
          <a:xfrm>
            <a:off x="3276720" y="515772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Digestión de Proteínas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I) En el estóma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upo 48"/>
          <p:cNvGrpSpPr/>
          <p:nvPr/>
        </p:nvGrpSpPr>
        <p:grpSpPr>
          <a:xfrm>
            <a:off x="1550160" y="5229360"/>
            <a:ext cx="4485240" cy="393120"/>
            <a:chOff x="1550160" y="5229360"/>
            <a:chExt cx="4485240" cy="393120"/>
          </a:xfrm>
        </p:grpSpPr>
        <p:sp>
          <p:nvSpPr>
            <p:cNvPr id="115" name="Rectángulo 7"/>
            <p:cNvSpPr/>
            <p:nvPr/>
          </p:nvSpPr>
          <p:spPr>
            <a:xfrm>
              <a:off x="1550160" y="5229360"/>
              <a:ext cx="1245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oenzim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ángulo 8"/>
            <p:cNvSpPr/>
            <p:nvPr/>
          </p:nvSpPr>
          <p:spPr>
            <a:xfrm>
              <a:off x="4504680" y="5256360"/>
              <a:ext cx="1530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Enzima activa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ángulo 9"/>
            <p:cNvSpPr/>
            <p:nvPr/>
          </p:nvSpPr>
          <p:spPr>
            <a:xfrm>
              <a:off x="3265200" y="5229360"/>
              <a:ext cx="1206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H 1,5-2,5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upo 10"/>
          <p:cNvGrpSpPr/>
          <p:nvPr/>
        </p:nvGrpSpPr>
        <p:grpSpPr>
          <a:xfrm>
            <a:off x="684360" y="5805360"/>
            <a:ext cx="2515680" cy="115920"/>
            <a:chOff x="684360" y="5805360"/>
            <a:chExt cx="2515680" cy="115920"/>
          </a:xfrm>
        </p:grpSpPr>
        <p:sp>
          <p:nvSpPr>
            <p:cNvPr id="119" name="Elipse 21"/>
            <p:cNvSpPr/>
            <p:nvPr/>
          </p:nvSpPr>
          <p:spPr>
            <a:xfrm>
              <a:off x="684360" y="580536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Elipse 20"/>
            <p:cNvSpPr/>
            <p:nvPr/>
          </p:nvSpPr>
          <p:spPr>
            <a:xfrm>
              <a:off x="913320" y="580572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Elipse 19"/>
            <p:cNvSpPr/>
            <p:nvPr/>
          </p:nvSpPr>
          <p:spPr>
            <a:xfrm>
              <a:off x="1141920" y="5805720"/>
              <a:ext cx="22896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Elipse 18"/>
            <p:cNvSpPr/>
            <p:nvPr/>
          </p:nvSpPr>
          <p:spPr>
            <a:xfrm>
              <a:off x="1370880" y="580572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Elipse 17"/>
            <p:cNvSpPr/>
            <p:nvPr/>
          </p:nvSpPr>
          <p:spPr>
            <a:xfrm>
              <a:off x="1599480" y="5805720"/>
              <a:ext cx="22860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Elipse 16"/>
            <p:cNvSpPr/>
            <p:nvPr/>
          </p:nvSpPr>
          <p:spPr>
            <a:xfrm>
              <a:off x="1828080" y="5805720"/>
              <a:ext cx="22968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Elipse 15"/>
            <p:cNvSpPr/>
            <p:nvPr/>
          </p:nvSpPr>
          <p:spPr>
            <a:xfrm>
              <a:off x="2056680" y="5805720"/>
              <a:ext cx="229680" cy="115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Elipse 14"/>
            <p:cNvSpPr/>
            <p:nvPr/>
          </p:nvSpPr>
          <p:spPr>
            <a:xfrm>
              <a:off x="2285280" y="5805720"/>
              <a:ext cx="22824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Elipse 13"/>
            <p:cNvSpPr/>
            <p:nvPr/>
          </p:nvSpPr>
          <p:spPr>
            <a:xfrm>
              <a:off x="2513880" y="5805720"/>
              <a:ext cx="22968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Elipse 12"/>
            <p:cNvSpPr/>
            <p:nvPr/>
          </p:nvSpPr>
          <p:spPr>
            <a:xfrm>
              <a:off x="2742480" y="5805720"/>
              <a:ext cx="22824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Elipse 11"/>
            <p:cNvSpPr/>
            <p:nvPr/>
          </p:nvSpPr>
          <p:spPr>
            <a:xfrm>
              <a:off x="2971080" y="5805720"/>
              <a:ext cx="228960" cy="114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upo 22"/>
          <p:cNvGrpSpPr/>
          <p:nvPr/>
        </p:nvGrpSpPr>
        <p:grpSpPr>
          <a:xfrm>
            <a:off x="4067280" y="5805360"/>
            <a:ext cx="1601280" cy="115920"/>
            <a:chOff x="4067280" y="5805360"/>
            <a:chExt cx="1601280" cy="115920"/>
          </a:xfrm>
        </p:grpSpPr>
        <p:sp>
          <p:nvSpPr>
            <p:cNvPr id="131" name="Elipse 30"/>
            <p:cNvSpPr/>
            <p:nvPr/>
          </p:nvSpPr>
          <p:spPr>
            <a:xfrm>
              <a:off x="4524840" y="5805360"/>
              <a:ext cx="229320" cy="11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Elipse 29"/>
            <p:cNvSpPr/>
            <p:nvPr/>
          </p:nvSpPr>
          <p:spPr>
            <a:xfrm>
              <a:off x="5211360" y="5805360"/>
              <a:ext cx="230040" cy="11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3" name="Grupo 23"/>
            <p:cNvGrpSpPr/>
            <p:nvPr/>
          </p:nvGrpSpPr>
          <p:grpSpPr>
            <a:xfrm>
              <a:off x="4067280" y="5805360"/>
              <a:ext cx="1601280" cy="115920"/>
              <a:chOff x="4067280" y="5805360"/>
              <a:chExt cx="1601280" cy="115920"/>
            </a:xfrm>
          </p:grpSpPr>
          <p:sp>
            <p:nvSpPr>
              <p:cNvPr id="134" name="Elipse 28"/>
              <p:cNvSpPr/>
              <p:nvPr/>
            </p:nvSpPr>
            <p:spPr>
              <a:xfrm>
                <a:off x="4753080" y="5805360"/>
                <a:ext cx="228600" cy="115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Elipse 27"/>
              <p:cNvSpPr/>
              <p:nvPr/>
            </p:nvSpPr>
            <p:spPr>
              <a:xfrm>
                <a:off x="4067280" y="5806080"/>
                <a:ext cx="229320" cy="115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Elipse 26"/>
              <p:cNvSpPr/>
              <p:nvPr/>
            </p:nvSpPr>
            <p:spPr>
              <a:xfrm>
                <a:off x="4295880" y="5806080"/>
                <a:ext cx="229320" cy="114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Elipse 25"/>
              <p:cNvSpPr/>
              <p:nvPr/>
            </p:nvSpPr>
            <p:spPr>
              <a:xfrm>
                <a:off x="4981680" y="5805360"/>
                <a:ext cx="230040" cy="115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Elipse 24"/>
              <p:cNvSpPr/>
              <p:nvPr/>
            </p:nvSpPr>
            <p:spPr>
              <a:xfrm>
                <a:off x="5439960" y="5806080"/>
                <a:ext cx="228600" cy="114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9" name="Grupo 31"/>
          <p:cNvGrpSpPr/>
          <p:nvPr/>
        </p:nvGrpSpPr>
        <p:grpSpPr>
          <a:xfrm>
            <a:off x="6804000" y="5805360"/>
            <a:ext cx="685800" cy="111240"/>
            <a:chOff x="6804000" y="5805360"/>
            <a:chExt cx="685800" cy="111240"/>
          </a:xfrm>
        </p:grpSpPr>
        <p:sp>
          <p:nvSpPr>
            <p:cNvPr id="140" name="Elipse 34"/>
            <p:cNvSpPr/>
            <p:nvPr/>
          </p:nvSpPr>
          <p:spPr>
            <a:xfrm>
              <a:off x="6804000" y="5805360"/>
              <a:ext cx="22932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Elipse 33"/>
            <p:cNvSpPr/>
            <p:nvPr/>
          </p:nvSpPr>
          <p:spPr>
            <a:xfrm>
              <a:off x="7032240" y="5805360"/>
              <a:ext cx="228240" cy="11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Elipse 32"/>
            <p:cNvSpPr/>
            <p:nvPr/>
          </p:nvSpPr>
          <p:spPr>
            <a:xfrm>
              <a:off x="7260840" y="5805360"/>
              <a:ext cx="22896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Cuadro de texto 37"/>
          <p:cNvSpPr/>
          <p:nvPr/>
        </p:nvSpPr>
        <p:spPr>
          <a:xfrm>
            <a:off x="755640" y="2421000"/>
            <a:ext cx="19432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GASTR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Cuadro de texto 41"/>
          <p:cNvSpPr/>
          <p:nvPr/>
        </p:nvSpPr>
        <p:spPr>
          <a:xfrm>
            <a:off x="3276720" y="1773360"/>
            <a:ext cx="2016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élulas Parie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uadro de texto 42"/>
          <p:cNvSpPr/>
          <p:nvPr/>
        </p:nvSpPr>
        <p:spPr>
          <a:xfrm>
            <a:off x="3348000" y="2997360"/>
            <a:ext cx="187164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élulas Princip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ínea 43"/>
          <p:cNvSpPr/>
          <p:nvPr/>
        </p:nvSpPr>
        <p:spPr>
          <a:xfrm>
            <a:off x="5292720" y="220500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ínea 44"/>
          <p:cNvSpPr/>
          <p:nvPr/>
        </p:nvSpPr>
        <p:spPr>
          <a:xfrm>
            <a:off x="5292720" y="335772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uadro de texto 45"/>
          <p:cNvSpPr/>
          <p:nvPr/>
        </p:nvSpPr>
        <p:spPr>
          <a:xfrm>
            <a:off x="6516720" y="1989000"/>
            <a:ext cx="1079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uadro de texto 46"/>
          <p:cNvSpPr/>
          <p:nvPr/>
        </p:nvSpPr>
        <p:spPr>
          <a:xfrm>
            <a:off x="6443640" y="3141720"/>
            <a:ext cx="223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Pepsinóg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forma 49"/>
          <p:cNvSpPr/>
          <p:nvPr/>
        </p:nvSpPr>
        <p:spPr>
          <a:xfrm rot="20733000">
            <a:off x="2700000" y="2204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forma 50"/>
          <p:cNvSpPr/>
          <p:nvPr/>
        </p:nvSpPr>
        <p:spPr>
          <a:xfrm rot="1538400">
            <a:off x="2700000" y="292392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2:46:38Z</dcterms:created>
  <dc:creator>Fanny</dc:creator>
  <dc:description/>
  <dc:language>en-US</dc:language>
  <cp:lastModifiedBy>Preferred Customer</cp:lastModifiedBy>
  <cp:lastPrinted>2012-05-10T20:26:10Z</cp:lastPrinted>
  <dcterms:modified xsi:type="dcterms:W3CDTF">2014-04-23T20:21:02Z</dcterms:modified>
  <cp:revision>115</cp:revision>
  <dc:subject/>
  <dc:title>Presentación de PowerPoint</dc:title>
</cp:coreProperties>
</file>